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wmf" ContentType="image/x-wmf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448B8-5EFB-4CE3-BEC2-341965314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6c1e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828440" y="3809520"/>
            <a:ext cx="71629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828440" y="4645440"/>
            <a:ext cx="71629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B02E0-43C0-416A-A514-71262498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6c1e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440" y="3809520"/>
            <a:ext cx="3495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99000" y="3809520"/>
            <a:ext cx="3495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828440" y="4645440"/>
            <a:ext cx="3495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499000" y="4645440"/>
            <a:ext cx="3495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22BFB-AD2E-439D-9F29-4D11700FB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6c1e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828440" y="3809520"/>
            <a:ext cx="23061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50160" y="3809520"/>
            <a:ext cx="23061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72240" y="3809520"/>
            <a:ext cx="23061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828440" y="4645440"/>
            <a:ext cx="23061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250160" y="4645440"/>
            <a:ext cx="23061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72240" y="4645440"/>
            <a:ext cx="23061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CB353-01BC-4689-B294-56F4F2C54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6B655-F677-4EE6-B516-E9106FE5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6c1ed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828440" y="3809520"/>
            <a:ext cx="7162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BA293-AD97-413B-AEC2-A874A8B7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6c1ed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28440" y="3809520"/>
            <a:ext cx="71629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CA01B-53C6-4084-A800-A7D47C25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6c1ed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28440" y="3809520"/>
            <a:ext cx="349524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99000" y="3809520"/>
            <a:ext cx="349524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01CC2-C7EC-49BB-9AF6-D89D2F0E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6c1e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38857-69CA-46BC-AF10-40269E59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19320" y="1219320"/>
            <a:ext cx="777240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3D84B-84EF-48F2-9F5F-8DB1F18F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6c1ed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28440" y="3809520"/>
            <a:ext cx="3495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99000" y="3809520"/>
            <a:ext cx="349524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828440" y="4645440"/>
            <a:ext cx="3495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30DE0-0257-4CAF-880A-C13773F7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6c1ed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828440" y="3809520"/>
            <a:ext cx="7162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A2B4C-C1FA-4687-867C-8ECF40EC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6c1e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440" y="3809520"/>
            <a:ext cx="349524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99000" y="3809520"/>
            <a:ext cx="3495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499000" y="4645440"/>
            <a:ext cx="3495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A0B41-26D7-4E4A-A73E-94E7981F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6c1e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28440" y="3809520"/>
            <a:ext cx="3495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99000" y="3809520"/>
            <a:ext cx="3495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28440" y="4645440"/>
            <a:ext cx="71629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FBF6D-55C0-4136-A718-5C11EE10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6c1e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828440" y="3809520"/>
            <a:ext cx="71629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828440" y="4645440"/>
            <a:ext cx="71629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D5200-C3B4-4847-900A-738001AA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6c1e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8440" y="3809520"/>
            <a:ext cx="3495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99000" y="3809520"/>
            <a:ext cx="3495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828440" y="4645440"/>
            <a:ext cx="3495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499000" y="4645440"/>
            <a:ext cx="3495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5D929-2A2A-4851-952D-FFA7F5607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6c1e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828440" y="3809520"/>
            <a:ext cx="23061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50160" y="3809520"/>
            <a:ext cx="23061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72240" y="3809520"/>
            <a:ext cx="23061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828440" y="4645440"/>
            <a:ext cx="23061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250160" y="4645440"/>
            <a:ext cx="23061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72240" y="4645440"/>
            <a:ext cx="23061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423F4-6F5E-44C3-BE48-BD804F1B3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6c1e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440" y="3809520"/>
            <a:ext cx="71629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F9CE0-6873-4EDE-A3B1-A1882C63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6c1e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28440" y="3809520"/>
            <a:ext cx="349524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499000" y="3809520"/>
            <a:ext cx="349524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7C8AD-D0F4-40D7-959C-1A9001E0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6c1e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F33DF-8D55-4F8D-AF71-DCCFB0EA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19320" y="1219320"/>
            <a:ext cx="777240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49C3C-27D9-4B68-9AE9-8CB2A03B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6c1e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828440" y="3809520"/>
            <a:ext cx="3495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99000" y="3809520"/>
            <a:ext cx="349524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828440" y="4645440"/>
            <a:ext cx="3495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88190-BFB4-4003-9EF1-6B9C2BCF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6c1ed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828440" y="3809520"/>
            <a:ext cx="349524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99000" y="3809520"/>
            <a:ext cx="3495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499000" y="4645440"/>
            <a:ext cx="3495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C972D-4E60-4AD1-8A84-D112EBED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6c1e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828440" y="3809520"/>
            <a:ext cx="3495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99000" y="3809520"/>
            <a:ext cx="3495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828440" y="4645440"/>
            <a:ext cx="71629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5783D-C283-40ED-B12E-5F275E0D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" cy="895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9520" y="-76320"/>
            <a:ext cx="5334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c1ed"/>
                </a:solidFill>
                <a:latin typeface="BankGothic Lt BT"/>
              </a:rPr>
              <a:t>Click to edit the title text format</a:t>
            </a:r>
            <a:endParaRPr b="1" lang="en-US" sz="3600" spc="-1" strike="noStrike">
              <a:solidFill>
                <a:srgbClr val="96c1ed"/>
              </a:solidFill>
              <a:latin typeface="BankGothic Lt B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126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96c1ed"/>
                </a:solidFill>
                <a:latin typeface="BankGothic Md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CECA-723F-4819-BC72-8E46BC40DE02}" type="slidenum">
              <a:rPr b="0" lang="es-ES" sz="2400" spc="-1" strike="noStrike">
                <a:solidFill>
                  <a:srgbClr val="96c1ed"/>
                </a:solidFill>
                <a:latin typeface="BankGothic Md B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4572000" y="6324480"/>
            <a:ext cx="2666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144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66ff66"/>
                </a:solidFill>
                <a:latin typeface="BankGothic Md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66ff66"/>
                </a:solidFill>
                <a:latin typeface="BankGothic Md B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3"/>
          </p:nvPr>
        </p:nvSpPr>
        <p:spPr>
          <a:xfrm>
            <a:off x="990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54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ff66"/>
                </a:solidFill>
                <a:latin typeface="BankGothic Md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66"/>
                </a:solidFill>
                <a:latin typeface="BankGothic Md B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63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b1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ylus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tylus BT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ylus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tylus BT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ylus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tylus BT"/>
            </a:endParaRPr>
          </a:p>
          <a:p>
            <a:pPr lvl="3" marL="1600200" indent="-228600">
              <a:spcBef>
                <a:spcPts val="799"/>
              </a:spcBef>
              <a:buClr>
                <a:srgbClr val="66ff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ylus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tylus BT"/>
            </a:endParaRPr>
          </a:p>
          <a:p>
            <a:pPr lvl="4" marL="2057400" indent="-228600">
              <a:spcBef>
                <a:spcPts val="799"/>
              </a:spcBef>
              <a:buClr>
                <a:srgbClr val="f8b1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ylus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tylus B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ylus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tylus B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ylus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tylus BT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3545" t="0" r="7090" b="1189"/>
          <a:stretch/>
        </p:blipFill>
        <p:spPr>
          <a:xfrm>
            <a:off x="0" y="874800"/>
            <a:ext cx="907920" cy="598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091200"/>
            <a:ext cx="9144000" cy="766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ViboraInterfaz_r1_c1" descr=""/>
          <p:cNvPicPr/>
          <p:nvPr/>
        </p:nvPicPr>
        <p:blipFill>
          <a:blip r:embed="rId2"/>
          <a:stretch/>
        </p:blipFill>
        <p:spPr>
          <a:xfrm>
            <a:off x="0" y="6089760"/>
            <a:ext cx="4572000" cy="766800"/>
          </a:xfrm>
          <a:prstGeom prst="rect">
            <a:avLst/>
          </a:prstGeom>
          <a:ln w="0">
            <a:noFill/>
          </a:ln>
        </p:spPr>
      </p:pic>
      <p:pic>
        <p:nvPicPr>
          <p:cNvPr id="45" name="ViboraInterfaz_r1_c7" descr=""/>
          <p:cNvPicPr/>
          <p:nvPr/>
        </p:nvPicPr>
        <p:blipFill>
          <a:blip r:embed="rId3"/>
          <a:stretch/>
        </p:blipFill>
        <p:spPr>
          <a:xfrm>
            <a:off x="5451480" y="6089760"/>
            <a:ext cx="3692520" cy="768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943600"/>
            <a:ext cx="4572000" cy="152280"/>
          </a:xfrm>
          <a:prstGeom prst="rect">
            <a:avLst/>
          </a:prstGeom>
          <a:solidFill>
            <a:srgbClr val="96c1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5943600"/>
            <a:ext cx="4572000" cy="152280"/>
          </a:xfrm>
          <a:prstGeom prst="rect">
            <a:avLst/>
          </a:prstGeom>
          <a:gradFill rotWithShape="0">
            <a:gsLst>
              <a:gs pos="0">
                <a:srgbClr val="f8f5ee"/>
              </a:gs>
              <a:gs pos="100000">
                <a:srgbClr val="96c1e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c1e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96c1ed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4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126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96c1e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92BB-2FF5-408A-97E2-CAC504BA81F0}" type="slidenum">
              <a:rPr b="0" lang="es-ES" sz="2400" spc="-1" strike="noStrike">
                <a:solidFill>
                  <a:srgbClr val="96c1ed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6477120" y="5638680"/>
            <a:ext cx="2666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144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33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6"/>
          </p:nvPr>
        </p:nvSpPr>
        <p:spPr>
          <a:xfrm>
            <a:off x="5410080" y="5638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54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ylus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tylus B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tylus BT"/>
            </a:endParaRPr>
          </a:p>
          <a:p>
            <a:pPr lvl="2" marL="914400" algn="ctr">
              <a:spcBef>
                <a:spcPts val="601"/>
              </a:spcBef>
              <a:buClr>
                <a:srgbClr val="0080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ylus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  <a:p>
            <a:pPr lvl="3" marL="1371600" algn="ctr">
              <a:spcBef>
                <a:spcPts val="499"/>
              </a:spcBef>
              <a:buClr>
                <a:srgbClr val="66ff66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tylus B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Stylus BT"/>
            </a:endParaRPr>
          </a:p>
          <a:p>
            <a:pPr lvl="4" marL="1828800" algn="ctr">
              <a:spcBef>
                <a:spcPts val="499"/>
              </a:spcBef>
              <a:buClr>
                <a:srgbClr val="f8b100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tylus B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Stylus B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tylus B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Stylus B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tylus B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Stylus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vibora.iie.org.mx/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5003640"/>
            <a:ext cx="9144000" cy="1092240"/>
          </a:xfrm>
          <a:prstGeom prst="rect">
            <a:avLst/>
          </a:prstGeom>
          <a:solidFill>
            <a:srgbClr val="f8f5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96c1ed"/>
                </a:solidFill>
                <a:latin typeface="BankGothic Md BT"/>
              </a:rPr>
              <a:t>VIBORA:</a:t>
            </a:r>
            <a:br>
              <a:rPr sz="4800"/>
            </a:br>
            <a:r>
              <a:rPr b="0" lang="es-MX" sz="3600" spc="-1" strike="noStrike">
                <a:solidFill>
                  <a:srgbClr val="96c1ed"/>
                </a:solidFill>
                <a:latin typeface="Verdana"/>
              </a:rPr>
              <a:t>Capacitación en línea basada en objetos reusables de aprendizaje</a:t>
            </a:r>
            <a:endParaRPr b="0" lang="en-US" sz="3600" spc="-1" strike="noStrike">
              <a:solidFill>
                <a:srgbClr val="96c1e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828440" y="3809520"/>
            <a:ext cx="7162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tylus BT"/>
              </a:rPr>
              <a:t>Rafael Morales Gamboa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Stylus BT"/>
              </a:rPr>
              <a:t>Instituto de Investigaciones Eléctricas</a:t>
            </a: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tylus BT"/>
              </a:rPr>
              <a:t>Reunión CUDI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Stylus BT"/>
              </a:rPr>
              <a:t>primavera 2003</a:t>
            </a: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92" name=""/>
          <p:cNvSpPr/>
          <p:nvPr/>
        </p:nvSpPr>
        <p:spPr>
          <a:xfrm>
            <a:off x="383364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9520" y="-76320"/>
            <a:ext cx="5334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96c1ed"/>
                </a:solidFill>
                <a:latin typeface="BankGothic Lt BT"/>
              </a:rPr>
              <a:t>Qué hemos hecho</a:t>
            </a:r>
            <a:endParaRPr b="1" lang="en-US" sz="3600" spc="-1" strike="noStrike">
              <a:solidFill>
                <a:srgbClr val="96c1ed"/>
              </a:solidFill>
              <a:latin typeface="BankGothic Lt BT"/>
            </a:endParaRPr>
          </a:p>
        </p:txBody>
      </p:sp>
      <p:pic>
        <p:nvPicPr>
          <p:cNvPr id="140" name="viboraIntrfz1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3332160" cy="2968560"/>
          </a:xfrm>
          <a:prstGeom prst="rect">
            <a:avLst/>
          </a:prstGeom>
          <a:ln w="0">
            <a:noFill/>
          </a:ln>
        </p:spPr>
      </p:pic>
      <p:pic>
        <p:nvPicPr>
          <p:cNvPr id="141" name="vibora-Alumno" descr=""/>
          <p:cNvPicPr/>
          <p:nvPr/>
        </p:nvPicPr>
        <p:blipFill>
          <a:blip r:embed="rId2"/>
          <a:stretch/>
        </p:blipFill>
        <p:spPr>
          <a:xfrm>
            <a:off x="2895480" y="3581280"/>
            <a:ext cx="3505320" cy="2840040"/>
          </a:xfrm>
          <a:prstGeom prst="rect">
            <a:avLst/>
          </a:prstGeom>
          <a:ln w="0">
            <a:noFill/>
          </a:ln>
        </p:spPr>
      </p:pic>
      <p:pic>
        <p:nvPicPr>
          <p:cNvPr id="142" name="vibora-Importar" descr=""/>
          <p:cNvPicPr/>
          <p:nvPr/>
        </p:nvPicPr>
        <p:blipFill>
          <a:blip r:embed="rId3"/>
          <a:stretch/>
        </p:blipFill>
        <p:spPr>
          <a:xfrm>
            <a:off x="5105520" y="1447920"/>
            <a:ext cx="3484440" cy="282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a presentación técnic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4A77C-68B2-4AA0-B8DD-D344C924B56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Proyecto 12191</a:t>
            </a:r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9520" y="-76320"/>
            <a:ext cx="5334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96c1ed"/>
                </a:solidFill>
                <a:latin typeface="BankGothic Lt BT"/>
              </a:rPr>
              <a:t>Qué hemos hecho</a:t>
            </a:r>
            <a:endParaRPr b="1" lang="en-US" sz="3600" spc="-1" strike="noStrike">
              <a:solidFill>
                <a:srgbClr val="96c1ed"/>
              </a:solidFill>
              <a:latin typeface="BankGothic Lt BT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3048120"/>
            <a:ext cx="1371600" cy="838080"/>
          </a:xfrm>
          <a:prstGeom prst="rect">
            <a:avLst/>
          </a:prstGeom>
          <a:solidFill>
            <a:srgbClr val="66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Verdana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92560" y="3809880"/>
            <a:ext cx="1067040" cy="838440"/>
          </a:xfrm>
          <a:prstGeom prst="rect">
            <a:avLst/>
          </a:prstGeom>
          <a:solidFill>
            <a:srgbClr val="66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Be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3809880"/>
            <a:ext cx="1067040" cy="838440"/>
          </a:xfrm>
          <a:prstGeom prst="rect">
            <a:avLst/>
          </a:prstGeom>
          <a:solidFill>
            <a:srgbClr val="66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J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2133720"/>
            <a:ext cx="1067040" cy="838080"/>
          </a:xfrm>
          <a:prstGeom prst="rect">
            <a:avLst/>
          </a:prstGeom>
          <a:solidFill>
            <a:srgbClr val="66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71600" y="4419720"/>
            <a:ext cx="1066680" cy="838080"/>
          </a:xfrm>
          <a:prstGeom prst="rect">
            <a:avLst/>
          </a:prstGeom>
          <a:solidFill>
            <a:srgbClr val="66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pp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5486400"/>
            <a:ext cx="1067040" cy="838080"/>
          </a:xfrm>
          <a:prstGeom prst="rect">
            <a:avLst/>
          </a:prstGeom>
          <a:solidFill>
            <a:srgbClr val="66ff66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erv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10280" y="3657600"/>
            <a:ext cx="1752840" cy="1143000"/>
          </a:xfrm>
          <a:prstGeom prst="flowChartMagneticDisk">
            <a:avLst/>
          </a:prstGeom>
          <a:solidFill>
            <a:srgbClr val="66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VIB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4267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267080" y="2819160"/>
            <a:ext cx="3505320" cy="990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72400" y="281952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235560" y="426708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4495320"/>
            <a:ext cx="76212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267080" y="4571640"/>
            <a:ext cx="3505320" cy="1143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137160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137160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95680" y="137160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99320" y="145404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61080" y="1447920"/>
            <a:ext cx="118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erv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91600" y="1447920"/>
            <a:ext cx="118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erv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31680" y="1447920"/>
            <a:ext cx="185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erv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mpon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a presentación técnic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5E1C2-8CAB-4D08-B019-D1536310E00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Proyecto 12191</a:t>
            </a:r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9520" y="-76320"/>
            <a:ext cx="5334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96c1ed"/>
                </a:solidFill>
                <a:latin typeface="BankGothic Lt BT"/>
              </a:rPr>
              <a:t>Qué hemos hecho</a:t>
            </a:r>
            <a:endParaRPr b="1" lang="en-US" sz="3600" spc="-1" strike="noStrike">
              <a:solidFill>
                <a:srgbClr val="96c1ed"/>
              </a:solidFill>
              <a:latin typeface="BankGothic Lt B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b1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tylus BT"/>
              </a:rPr>
              <a:t>Flexibilidad en la secuenciación de los objetos de aprendizaje</a:t>
            </a:r>
            <a:endParaRPr b="0" lang="en-US" sz="3200" spc="-1" strike="noStrike">
              <a:solidFill>
                <a:srgbClr val="000000"/>
              </a:solidFill>
              <a:latin typeface="Stylus BT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Stylus BT"/>
              </a:rPr>
              <a:t>Secuenciación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Stylus BT"/>
              </a:rPr>
              <a:t>predefinida</a:t>
            </a:r>
            <a:endParaRPr b="0" lang="en-US" sz="2800" spc="-1" strike="noStrike">
              <a:solidFill>
                <a:srgbClr val="000000"/>
              </a:solidFill>
              <a:latin typeface="Stylus B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tylus BT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Stylus BT"/>
              </a:rPr>
              <a:t>Secuenciación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Stylus BT"/>
              </a:rPr>
              <a:t>“socrática”</a:t>
            </a:r>
            <a:endParaRPr b="0" lang="en-US" sz="28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166" name=""/>
          <p:cNvSpPr/>
          <p:nvPr/>
        </p:nvSpPr>
        <p:spPr>
          <a:xfrm>
            <a:off x="7157880" y="3438360"/>
            <a:ext cx="731880" cy="667080"/>
          </a:xfrm>
          <a:prstGeom prst="rect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72400" y="2438280"/>
            <a:ext cx="571320" cy="568440"/>
          </a:xfrm>
          <a:prstGeom prst="rect">
            <a:avLst/>
          </a:prstGeom>
          <a:solidFill>
            <a:srgbClr val="f8b1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j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03800" y="2438280"/>
            <a:ext cx="571680" cy="568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31280" y="2438280"/>
            <a:ext cx="571320" cy="56844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j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83160" y="3487680"/>
            <a:ext cx="570240" cy="566640"/>
          </a:xfrm>
          <a:prstGeom prst="rect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8" idx="3"/>
            <a:endCxn id="167" idx="1"/>
          </p:cNvCxnSpPr>
          <p:nvPr/>
        </p:nvCxnSpPr>
        <p:spPr>
          <a:xfrm>
            <a:off x="6681600" y="2722320"/>
            <a:ext cx="1861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67" idx="3"/>
            <a:endCxn id="169" idx="1"/>
          </p:cNvCxnSpPr>
          <p:nvPr/>
        </p:nvCxnSpPr>
        <p:spPr>
          <a:xfrm>
            <a:off x="7449840" y="2722320"/>
            <a:ext cx="1753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9" idx="3"/>
            <a:endCxn id="170" idx="1"/>
          </p:cNvCxnSpPr>
          <p:nvPr/>
        </p:nvCxnSpPr>
        <p:spPr>
          <a:xfrm flipH="1">
            <a:off x="6378120" y="2722680"/>
            <a:ext cx="1829520" cy="1048320"/>
          </a:xfrm>
          <a:prstGeom prst="bentConnector5">
            <a:avLst>
              <a:gd name="adj1" fmla="val -7045"/>
              <a:gd name="adj2" fmla="val 49982"/>
              <a:gd name="adj3" fmla="val 113127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0" idx="3"/>
            <a:endCxn id="166" idx="1"/>
          </p:cNvCxnSpPr>
          <p:nvPr/>
        </p:nvCxnSpPr>
        <p:spPr>
          <a:xfrm>
            <a:off x="6958080" y="3769920"/>
            <a:ext cx="1958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66" idx="2"/>
            <a:endCxn id="168" idx="1"/>
          </p:cNvCxnSpPr>
          <p:nvPr/>
        </p:nvCxnSpPr>
        <p:spPr>
          <a:xfrm flipV="1" rot="16200000">
            <a:off x="6113520" y="2703600"/>
            <a:ext cx="1392840" cy="1429560"/>
          </a:xfrm>
          <a:prstGeom prst="bentConnector4">
            <a:avLst>
              <a:gd name="adj1" fmla="val -7730"/>
              <a:gd name="adj2" fmla="val 112292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8164440" y="3487680"/>
            <a:ext cx="569880" cy="56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66" idx="3"/>
            <a:endCxn id="176" idx="1"/>
          </p:cNvCxnSpPr>
          <p:nvPr/>
        </p:nvCxnSpPr>
        <p:spPr>
          <a:xfrm>
            <a:off x="7896240" y="3769920"/>
            <a:ext cx="26424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</p:cxnSp>
      <p:grpSp>
        <p:nvGrpSpPr>
          <p:cNvPr id="178" name=""/>
          <p:cNvGrpSpPr/>
          <p:nvPr/>
        </p:nvGrpSpPr>
        <p:grpSpPr>
          <a:xfrm>
            <a:off x="3809880" y="4449240"/>
            <a:ext cx="3504960" cy="2130120"/>
            <a:chOff x="3809880" y="4449240"/>
            <a:chExt cx="3504960" cy="2130120"/>
          </a:xfrm>
        </p:grpSpPr>
        <p:sp>
          <p:nvSpPr>
            <p:cNvPr id="179" name=""/>
            <p:cNvSpPr/>
            <p:nvPr/>
          </p:nvSpPr>
          <p:spPr>
            <a:xfrm>
              <a:off x="7012080" y="5274360"/>
              <a:ext cx="302760" cy="351360"/>
            </a:xfrm>
            <a:prstGeom prst="ellipse">
              <a:avLst/>
            </a:prstGeom>
            <a:solidFill>
              <a:srgbClr val="66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30520" y="5274360"/>
              <a:ext cx="302760" cy="3513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09880" y="5274360"/>
              <a:ext cx="302760" cy="351360"/>
            </a:xfrm>
            <a:prstGeom prst="ellipse">
              <a:avLst/>
            </a:prstGeom>
            <a:solidFill>
              <a:srgbClr val="66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20200" y="5274360"/>
              <a:ext cx="302760" cy="35136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15760" y="5274360"/>
              <a:ext cx="302760" cy="351360"/>
            </a:xfrm>
            <a:prstGeom prst="ellipse">
              <a:avLst/>
            </a:prstGeom>
            <a:solidFill>
              <a:srgbClr val="ff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603760" y="5274360"/>
              <a:ext cx="302760" cy="351360"/>
            </a:xfrm>
            <a:prstGeom prst="ellipse">
              <a:avLst/>
            </a:prstGeom>
            <a:solidFill>
              <a:srgbClr val="f8b1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5" name=""/>
            <p:cNvCxnSpPr>
              <a:stCxn id="181" idx="6"/>
              <a:endCxn id="183" idx="2"/>
            </p:cNvCxnSpPr>
            <p:nvPr/>
          </p:nvCxnSpPr>
          <p:spPr>
            <a:xfrm>
              <a:off x="4127760" y="5448600"/>
              <a:ext cx="2750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6" name=""/>
            <p:cNvCxnSpPr>
              <a:stCxn id="183" idx="6"/>
              <a:endCxn id="182" idx="2"/>
            </p:cNvCxnSpPr>
            <p:nvPr/>
          </p:nvCxnSpPr>
          <p:spPr>
            <a:xfrm>
              <a:off x="4727880" y="5448600"/>
              <a:ext cx="28080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7" name=""/>
            <p:cNvCxnSpPr>
              <a:stCxn id="183" idx="5"/>
            </p:cNvCxnSpPr>
            <p:nvPr/>
          </p:nvCxnSpPr>
          <p:spPr>
            <a:xfrm flipH="1" flipV="1" rot="5400000">
              <a:off x="5087520" y="5023440"/>
              <a:ext cx="139320" cy="964800"/>
            </a:xfrm>
            <a:prstGeom prst="bentConnector4">
              <a:avLst>
                <a:gd name="adj1" fmla="val -138082"/>
                <a:gd name="adj2" fmla="val 8036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8" name=""/>
            <p:cNvCxnSpPr>
              <a:stCxn id="183" idx="4"/>
              <a:endCxn id="180" idx="2"/>
            </p:cNvCxnSpPr>
            <p:nvPr/>
          </p:nvCxnSpPr>
          <p:spPr>
            <a:xfrm flipH="1" flipV="1" rot="5400000">
              <a:off x="5297760" y="4717080"/>
              <a:ext cx="190080" cy="1653120"/>
            </a:xfrm>
            <a:prstGeom prst="bentConnector4">
              <a:avLst>
                <a:gd name="adj1" fmla="val -348766"/>
                <a:gd name="adj2" fmla="val 8926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9" name=""/>
            <p:cNvCxnSpPr>
              <a:stCxn id="182" idx="0"/>
              <a:endCxn id="181" idx="7"/>
            </p:cNvCxnSpPr>
            <p:nvPr/>
          </p:nvCxnSpPr>
          <p:spPr>
            <a:xfrm rot="5400000">
              <a:off x="4598280" y="4734000"/>
              <a:ext cx="42480" cy="1102320"/>
            </a:xfrm>
            <a:prstGeom prst="bentConnector3">
              <a:avLst>
                <a:gd name="adj1" fmla="val -306837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0" name=""/>
            <p:cNvCxnSpPr>
              <a:stCxn id="184" idx="0"/>
              <a:endCxn id="181" idx="0"/>
            </p:cNvCxnSpPr>
            <p:nvPr/>
          </p:nvCxnSpPr>
          <p:spPr>
            <a:xfrm flipV="1" rot="16200000">
              <a:off x="4853160" y="4363200"/>
              <a:ext cx="6840" cy="1794600"/>
            </a:xfrm>
            <a:prstGeom prst="bentConnector3">
              <a:avLst>
                <a:gd name="adj1" fmla="val 89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1" name=""/>
            <p:cNvCxnSpPr>
              <a:stCxn id="180" idx="0"/>
              <a:endCxn id="181" idx="1"/>
            </p:cNvCxnSpPr>
            <p:nvPr/>
          </p:nvCxnSpPr>
          <p:spPr>
            <a:xfrm rot="5400000">
              <a:off x="5096520" y="4020120"/>
              <a:ext cx="42480" cy="2530080"/>
            </a:xfrm>
            <a:prstGeom prst="bentConnector3">
              <a:avLst>
                <a:gd name="adj1" fmla="val -1934188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2" name=""/>
            <p:cNvCxnSpPr>
              <a:stCxn id="181" idx="4"/>
            </p:cNvCxnSpPr>
            <p:nvPr/>
          </p:nvCxnSpPr>
          <p:spPr>
            <a:xfrm flipH="1" flipV="1" rot="5400000">
              <a:off x="5402520" y="4017240"/>
              <a:ext cx="167040" cy="3050280"/>
            </a:xfrm>
            <a:prstGeom prst="bentConnector4">
              <a:avLst>
                <a:gd name="adj1" fmla="val -572138"/>
                <a:gd name="adj2" fmla="val 88184"/>
              </a:avLst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a presentación técn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7D164-15F8-49EE-B5CC-3F13C8E6EEA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Proyecto 12191</a:t>
            </a:r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971800" y="4572000"/>
            <a:ext cx="4114800" cy="1981080"/>
          </a:xfrm>
          <a:prstGeom prst="rect">
            <a:avLst/>
          </a:prstGeom>
          <a:solidFill>
            <a:srgbClr val="66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9520" y="-76320"/>
            <a:ext cx="5334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96c1ed"/>
                </a:solidFill>
                <a:latin typeface="BankGothic Lt BT"/>
              </a:rPr>
              <a:t>Diseño de curso</a:t>
            </a:r>
            <a:br>
              <a:rPr sz="3600"/>
            </a:br>
            <a:r>
              <a:rPr b="1" lang="es-MX" sz="3600" spc="-1" strike="noStrike">
                <a:solidFill>
                  <a:srgbClr val="96c1ed"/>
                </a:solidFill>
                <a:latin typeface="BankGothic Lt BT"/>
              </a:rPr>
              <a:t>(Ma. Chan, INNOVA)</a:t>
            </a:r>
            <a:endParaRPr b="1" lang="en-US" sz="3600" spc="-1" strike="noStrike">
              <a:solidFill>
                <a:srgbClr val="96c1ed"/>
              </a:solidFill>
              <a:latin typeface="BankGothic Lt BT"/>
            </a:endParaRPr>
          </a:p>
        </p:txBody>
      </p:sp>
      <p:sp>
        <p:nvSpPr>
          <p:cNvPr id="195" name=""/>
          <p:cNvSpPr/>
          <p:nvPr/>
        </p:nvSpPr>
        <p:spPr>
          <a:xfrm>
            <a:off x="3048120" y="1447920"/>
            <a:ext cx="3962160" cy="990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Introducción a la N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ISO 9001: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71600" y="2971800"/>
            <a:ext cx="7315200" cy="129528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Perfil de compet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3429000"/>
            <a:ext cx="609840" cy="609480"/>
          </a:xfrm>
          <a:prstGeom prst="ellipse">
            <a:avLst/>
          </a:prstGeom>
          <a:solidFill>
            <a:srgbClr val="f8b1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90920" y="3429000"/>
            <a:ext cx="609480" cy="609480"/>
          </a:xfrm>
          <a:prstGeom prst="ellipse">
            <a:avLst/>
          </a:prstGeom>
          <a:solidFill>
            <a:srgbClr val="f8b1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3429000"/>
            <a:ext cx="609480" cy="609480"/>
          </a:xfrm>
          <a:prstGeom prst="ellipse">
            <a:avLst/>
          </a:prstGeom>
          <a:solidFill>
            <a:srgbClr val="f8b1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24280" y="3429000"/>
            <a:ext cx="609840" cy="609480"/>
          </a:xfrm>
          <a:prstGeom prst="ellipse">
            <a:avLst/>
          </a:prstGeom>
          <a:solidFill>
            <a:srgbClr val="f8b1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91320" y="3429000"/>
            <a:ext cx="609480" cy="609480"/>
          </a:xfrm>
          <a:prstGeom prst="ellipse">
            <a:avLst/>
          </a:prstGeom>
          <a:solidFill>
            <a:srgbClr val="f8b1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0" y="3429000"/>
            <a:ext cx="609480" cy="609480"/>
          </a:xfrm>
          <a:prstGeom prst="ellipse">
            <a:avLst/>
          </a:prstGeom>
          <a:solidFill>
            <a:srgbClr val="f8b1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924680" y="3429000"/>
            <a:ext cx="609840" cy="609480"/>
          </a:xfrm>
          <a:prstGeom prst="ellipse">
            <a:avLst/>
          </a:prstGeom>
          <a:solidFill>
            <a:srgbClr val="f8b1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71800" y="5321160"/>
            <a:ext cx="1219320" cy="24156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104"/>
                </a:moveTo>
                <a:cubicBezTo>
                  <a:pt x="80" y="52"/>
                  <a:pt x="160" y="0"/>
                  <a:pt x="288" y="8"/>
                </a:cubicBezTo>
                <a:cubicBezTo>
                  <a:pt x="416" y="16"/>
                  <a:pt x="592" y="84"/>
                  <a:pt x="768" y="15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48120" y="4648320"/>
            <a:ext cx="1828800" cy="838080"/>
          </a:xfrm>
          <a:prstGeom prst="rect">
            <a:avLst/>
          </a:prstGeom>
          <a:solidFill>
            <a:srgbClr val="ff0000"/>
          </a:solidFill>
          <a:ln w="38160">
            <a:solidFill>
              <a:srgbClr val="f8f5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5ee"/>
                </a:solidFill>
                <a:latin typeface="Verdana"/>
              </a:rPr>
              <a:t>Cono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4648320"/>
            <a:ext cx="1828800" cy="838080"/>
          </a:xfrm>
          <a:prstGeom prst="rect">
            <a:avLst/>
          </a:prstGeom>
          <a:solidFill>
            <a:srgbClr val="008000"/>
          </a:solidFill>
          <a:ln w="38160">
            <a:solidFill>
              <a:srgbClr val="f8f5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5ee"/>
                </a:solidFill>
                <a:latin typeface="Verdana"/>
              </a:rPr>
              <a:t>Habi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8120" y="5638680"/>
            <a:ext cx="1828800" cy="838440"/>
          </a:xfrm>
          <a:prstGeom prst="rect">
            <a:avLst/>
          </a:prstGeom>
          <a:solidFill>
            <a:srgbClr val="cc9900"/>
          </a:solidFill>
          <a:ln w="38160">
            <a:solidFill>
              <a:srgbClr val="f8f5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5ee"/>
                </a:solidFill>
                <a:latin typeface="Verdana"/>
              </a:rPr>
              <a:t>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1480" y="5638680"/>
            <a:ext cx="1828800" cy="838440"/>
          </a:xfrm>
          <a:prstGeom prst="rect">
            <a:avLst/>
          </a:prstGeom>
          <a:solidFill>
            <a:srgbClr val="003366"/>
          </a:solidFill>
          <a:ln w="38160">
            <a:solidFill>
              <a:srgbClr val="f8f5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5ee"/>
                </a:solidFill>
                <a:latin typeface="Verdana"/>
              </a:rPr>
              <a:t>Actitu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2514600"/>
            <a:ext cx="9018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4114800"/>
            <a:ext cx="9018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19320" y="4572000"/>
            <a:ext cx="914400" cy="1905120"/>
          </a:xfrm>
          <a:prstGeom prst="ellipse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nten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10800000">
            <a:off x="7924680" y="4572000"/>
            <a:ext cx="914400" cy="1905120"/>
          </a:xfrm>
          <a:prstGeom prst="ellipse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nten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209680" y="5105520"/>
            <a:ext cx="609840" cy="990360"/>
          </a:xfrm>
          <a:custGeom>
            <a:avLst/>
            <a:gdLst>
              <a:gd name="textAreaLeft" fmla="*/ 95400 w 609840"/>
              <a:gd name="textAreaRight" fmla="*/ 534240 w 60984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029200"/>
            <a:ext cx="609840" cy="990720"/>
          </a:xfrm>
          <a:custGeom>
            <a:avLst/>
            <a:gdLst>
              <a:gd name="textAreaLeft" fmla="*/ 95040 w 609840"/>
              <a:gd name="textAreaRight" fmla="*/ 533880 w 60984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a presentación técnic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02778-1A11-4D15-A561-B14F8A84AD0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Proyecto 12191</a:t>
            </a:r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9520" y="-76320"/>
            <a:ext cx="5334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96c1ed"/>
                </a:solidFill>
                <a:latin typeface="BankGothic Lt BT"/>
              </a:rPr>
              <a:t>Qué hemos hecho: Limitaciones</a:t>
            </a:r>
            <a:endParaRPr b="1" lang="en-US" sz="3600" spc="-1" strike="noStrike">
              <a:solidFill>
                <a:srgbClr val="96c1ed"/>
              </a:solidFill>
              <a:latin typeface="BankGothic Lt B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8b1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tylus BT"/>
              </a:rPr>
              <a:t>Secuenciación flexible únicamente dentro de una lección</a:t>
            </a:r>
            <a:endParaRPr b="0" lang="en-US" sz="3200" spc="-1" strike="noStrike">
              <a:solidFill>
                <a:srgbClr val="000000"/>
              </a:solidFill>
              <a:latin typeface="Stylus B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8b1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tylus BT"/>
              </a:rPr>
              <a:t>Secuenciación flexible y dinámica, pero no inteligente</a:t>
            </a:r>
            <a:endParaRPr b="0" lang="en-US" sz="3200" spc="-1" strike="noStrike">
              <a:solidFill>
                <a:srgbClr val="000000"/>
              </a:solidFill>
              <a:latin typeface="Stylus B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8b1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tylus BT"/>
              </a:rPr>
              <a:t>Depende de un etiquetado apropiado y previo de los objetos</a:t>
            </a:r>
            <a:endParaRPr b="0" lang="en-US" sz="3200" spc="-1" strike="noStrike">
              <a:solidFill>
                <a:srgbClr val="000000"/>
              </a:solidFill>
              <a:latin typeface="Stylus B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8b1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tylus BT"/>
              </a:rPr>
              <a:t>Herramienta de importación de cursos, no de autoría</a:t>
            </a:r>
            <a:endParaRPr b="0" lang="en-US" sz="3200" spc="-1" strike="noStrike">
              <a:solidFill>
                <a:srgbClr val="000000"/>
              </a:solidFill>
              <a:latin typeface="Stylus B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8b1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tylus BT"/>
              </a:rPr>
              <a:t>Sólo el 80% terminado</a:t>
            </a:r>
            <a:endParaRPr b="0" lang="en-US" sz="32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a presentación técn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BE7D7-8EC4-4638-8C82-2BD8030EDC6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Proyecto 12191</a:t>
            </a: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9520" y="-76320"/>
            <a:ext cx="5334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96c1ed"/>
                </a:solidFill>
                <a:latin typeface="BankGothic Lt BT"/>
              </a:rPr>
              <a:t>Problemas</a:t>
            </a:r>
            <a:endParaRPr b="1" lang="en-US" sz="3600" spc="-1" strike="noStrike">
              <a:solidFill>
                <a:srgbClr val="96c1ed"/>
              </a:solidFill>
              <a:latin typeface="BankGothic Lt B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b1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tylus BT"/>
              </a:rPr>
              <a:t>Problemas técnicos en la asimilación de tecnología en desarrollo</a:t>
            </a:r>
            <a:endParaRPr b="0" lang="en-US" sz="3200" spc="-1" strike="noStrike">
              <a:solidFill>
                <a:srgbClr val="000000"/>
              </a:solidFill>
              <a:latin typeface="Stylus BT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Stylus BT"/>
              </a:rPr>
              <a:t>Quisimos correr antes de caminar</a:t>
            </a:r>
            <a:endParaRPr b="0" lang="en-US" sz="2800" spc="-1" strike="noStrike">
              <a:solidFill>
                <a:srgbClr val="000000"/>
              </a:solidFill>
              <a:latin typeface="Stylus BT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Stylus BT"/>
              </a:rPr>
              <a:t>Extender Sample RTE se convirtió en rehacerlo (no completamente)</a:t>
            </a:r>
            <a:endParaRPr b="0" lang="en-US" sz="2800" spc="-1" strike="noStrike">
              <a:solidFill>
                <a:srgbClr val="000000"/>
              </a:solidFill>
              <a:latin typeface="Stylus BT"/>
            </a:endParaRPr>
          </a:p>
          <a:p>
            <a:pPr marL="343080" indent="-343080">
              <a:spcBef>
                <a:spcPts val="799"/>
              </a:spcBef>
              <a:buClr>
                <a:srgbClr val="f8b1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tylus BT"/>
              </a:rPr>
              <a:t>Escasez de contenidos organizados como objetos de aprendizaje</a:t>
            </a:r>
            <a:endParaRPr b="0" lang="en-US" sz="3200" spc="-1" strike="noStrike">
              <a:solidFill>
                <a:srgbClr val="000000"/>
              </a:solidFill>
              <a:latin typeface="Stylus BT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Stylus BT"/>
              </a:rPr>
              <a:t>Un grupo pequeño con muchas tareas</a:t>
            </a:r>
            <a:endParaRPr b="0" lang="en-US" sz="28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a presentación técn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A1783-D1E9-40F3-90C1-7BF0739F3B2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Proyecto 12191</a:t>
            </a:r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9520" y="-76320"/>
            <a:ext cx="5334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96c1ed"/>
                </a:solidFill>
                <a:latin typeface="BankGothic Lt BT"/>
              </a:rPr>
              <a:t>Perspectivas</a:t>
            </a:r>
            <a:endParaRPr b="1" lang="en-US" sz="3600" spc="-1" strike="noStrike">
              <a:solidFill>
                <a:srgbClr val="96c1ed"/>
              </a:solidFill>
              <a:latin typeface="BankGothic Lt B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8b1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Stylus BT"/>
              </a:rPr>
              <a:t>Primera versión completa de VIBORA</a:t>
            </a:r>
            <a:endParaRPr b="0" lang="en-US" sz="2800" spc="-1" strike="noStrike">
              <a:solidFill>
                <a:srgbClr val="000000"/>
              </a:solidFill>
              <a:latin typeface="Stylus BT"/>
            </a:endParaRPr>
          </a:p>
          <a:p>
            <a:pPr marL="343080" indent="-343080">
              <a:spcBef>
                <a:spcPts val="700"/>
              </a:spcBef>
              <a:buClr>
                <a:srgbClr val="f8b1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Stylus BT"/>
              </a:rPr>
              <a:t>Revisión de conformidad con SCORM 1.2</a:t>
            </a:r>
            <a:endParaRPr b="0" lang="en-US" sz="2800" spc="-1" strike="noStrike">
              <a:solidFill>
                <a:srgbClr val="000000"/>
              </a:solidFill>
              <a:latin typeface="Stylus BT"/>
            </a:endParaRPr>
          </a:p>
          <a:p>
            <a:pPr marL="343080" indent="-343080">
              <a:spcBef>
                <a:spcPts val="700"/>
              </a:spcBef>
              <a:buClr>
                <a:srgbClr val="f8b1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Stylus BT"/>
              </a:rPr>
              <a:t>Prueba en campo</a:t>
            </a:r>
            <a:endParaRPr b="0" lang="en-US" sz="2800" spc="-1" strike="noStrike">
              <a:solidFill>
                <a:srgbClr val="000000"/>
              </a:solidFill>
              <a:latin typeface="Stylus BT"/>
            </a:endParaRPr>
          </a:p>
          <a:p>
            <a:pPr marL="343080" indent="-343080">
              <a:spcBef>
                <a:spcPts val="700"/>
              </a:spcBef>
              <a:buClr>
                <a:srgbClr val="f8b1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Stylus BT"/>
              </a:rPr>
              <a:t>Separación del “contenedor” y el “secuenciador”</a:t>
            </a:r>
            <a:endParaRPr b="0" lang="en-US" sz="2800" spc="-1" strike="noStrike">
              <a:solidFill>
                <a:srgbClr val="000000"/>
              </a:solidFill>
              <a:latin typeface="Stylus BT"/>
            </a:endParaRPr>
          </a:p>
          <a:p>
            <a:pPr marL="343080" indent="-343080">
              <a:spcBef>
                <a:spcPts val="700"/>
              </a:spcBef>
              <a:buClr>
                <a:srgbClr val="f8b1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Stylus BT"/>
              </a:rPr>
              <a:t>Introducción de agentes tutores inteligentes</a:t>
            </a:r>
            <a:endParaRPr b="0" lang="en-US" sz="2800" spc="-1" strike="noStrike">
              <a:solidFill>
                <a:srgbClr val="000000"/>
              </a:solidFill>
              <a:latin typeface="Stylus BT"/>
            </a:endParaRPr>
          </a:p>
          <a:p>
            <a:pPr marL="343080" indent="-343080">
              <a:spcBef>
                <a:spcPts val="700"/>
              </a:spcBef>
              <a:buClr>
                <a:srgbClr val="f8b1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Stylus BT"/>
              </a:rPr>
              <a:t>Estudio de factibilidad de VIBORA como software libre</a:t>
            </a:r>
            <a:endParaRPr b="0" lang="en-US" sz="2800" spc="-1" strike="noStrike">
              <a:solidFill>
                <a:srgbClr val="000000"/>
              </a:solidFill>
              <a:latin typeface="Stylus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tylus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a presentación técn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80930-BB6C-4649-80A3-3CF64F03CF5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Proyecto 12191</a:t>
            </a:r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9520" y="-76320"/>
            <a:ext cx="5334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96c1ed"/>
                </a:solidFill>
                <a:latin typeface="BankGothic Lt BT"/>
              </a:rPr>
              <a:t>Conclusiones</a:t>
            </a:r>
            <a:endParaRPr b="1" lang="en-US" sz="3600" spc="-1" strike="noStrike">
              <a:solidFill>
                <a:srgbClr val="96c1ed"/>
              </a:solidFill>
              <a:latin typeface="BankGothic Lt B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8b1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Stylus BT"/>
              </a:rPr>
              <a:t>VIBORA: un sistema basado en objetos de aprendizaje, estándares y software libre</a:t>
            </a:r>
            <a:endParaRPr b="0" lang="en-US" sz="2800" spc="-1" strike="noStrike">
              <a:solidFill>
                <a:srgbClr val="000000"/>
              </a:solidFill>
              <a:latin typeface="Stylus BT"/>
            </a:endParaRPr>
          </a:p>
          <a:p>
            <a:pPr marL="343080" indent="-343080">
              <a:spcBef>
                <a:spcPts val="700"/>
              </a:spcBef>
              <a:buClr>
                <a:srgbClr val="f8b1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Stylus BT"/>
              </a:rPr>
              <a:t>El 80% de la primera versión terminada</a:t>
            </a:r>
            <a:endParaRPr b="0" lang="en-US" sz="2800" spc="-1" strike="noStrike">
              <a:solidFill>
                <a:srgbClr val="000000"/>
              </a:solidFill>
              <a:latin typeface="Stylus BT"/>
            </a:endParaRPr>
          </a:p>
          <a:p>
            <a:pPr marL="343080" indent="-343080">
              <a:spcBef>
                <a:spcPts val="700"/>
              </a:spcBef>
              <a:buClr>
                <a:srgbClr val="f8b1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Stylus BT"/>
              </a:rPr>
              <a:t>Diseño pedagógico de contenido (pero contenido aún muy escaso)</a:t>
            </a:r>
            <a:endParaRPr b="0" lang="en-US" sz="2800" spc="-1" strike="noStrike">
              <a:solidFill>
                <a:srgbClr val="000000"/>
              </a:solidFill>
              <a:latin typeface="Stylus BT"/>
            </a:endParaRPr>
          </a:p>
          <a:p>
            <a:pPr marL="343080" indent="-343080">
              <a:spcBef>
                <a:spcPts val="700"/>
              </a:spcBef>
              <a:buClr>
                <a:srgbClr val="f8b1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Stylus BT"/>
              </a:rPr>
              <a:t>Mayor experiencia para desarrollo e investigación futuros</a:t>
            </a:r>
            <a:endParaRPr b="0" lang="en-US" sz="2800" spc="-1" strike="noStrike">
              <a:solidFill>
                <a:srgbClr val="000000"/>
              </a:solidFill>
              <a:latin typeface="Stylus BT"/>
            </a:endParaRPr>
          </a:p>
          <a:p>
            <a:pPr marL="343080" indent="-343080">
              <a:spcBef>
                <a:spcPts val="700"/>
              </a:spcBef>
              <a:buClr>
                <a:srgbClr val="f8b1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Stylus BT"/>
              </a:rPr>
              <a:t>Posibilidades de colaboraciones y recursos externos para continuar el proyecto</a:t>
            </a:r>
            <a:endParaRPr b="0" lang="en-US" sz="28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a presentación técn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5AB78-3492-4BCA-A2E0-D17369F3B87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Proyecto 12191</a:t>
            </a:r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932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96c1ed"/>
                </a:solidFill>
                <a:latin typeface="Verdana"/>
              </a:rPr>
              <a:t>Gracias</a:t>
            </a:r>
            <a:endParaRPr b="0" lang="en-US" sz="3600" spc="-1" strike="noStrike">
              <a:solidFill>
                <a:srgbClr val="96c1e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828440" y="3809520"/>
            <a:ext cx="7162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ff0000"/>
                </a:solidFill>
                <a:uFillTx/>
                <a:latin typeface="Stylus BT"/>
                <a:hlinkClick r:id="rId1"/>
              </a:rPr>
              <a:t>http://vibora.iie.org.mx</a:t>
            </a: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tylus BT"/>
              </a:rPr>
              <a:t>¡Pronto!</a:t>
            </a:r>
            <a:endParaRPr b="0" lang="en-US" sz="2400" spc="-1" strike="noStrike">
              <a:solidFill>
                <a:srgbClr val="000000"/>
              </a:solidFill>
              <a:latin typeface="Stylus BT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9520" y="-76320"/>
            <a:ext cx="5334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96c1ed"/>
                </a:solidFill>
                <a:latin typeface="BankGothic Lt BT"/>
              </a:rPr>
              <a:t>Contenido</a:t>
            </a:r>
            <a:endParaRPr b="1" lang="en-US" sz="3600" spc="-1" strike="noStrike">
              <a:solidFill>
                <a:srgbClr val="96c1ed"/>
              </a:solidFill>
              <a:latin typeface="BankGothic Lt B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8b1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Stylus BT"/>
              </a:rPr>
              <a:t>¿Qué estamos haciendo?</a:t>
            </a:r>
            <a:endParaRPr b="0" lang="en-US" sz="3200" spc="-1" strike="noStrike">
              <a:solidFill>
                <a:srgbClr val="000000"/>
              </a:solidFill>
              <a:latin typeface="Stylus B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8b1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Stylus BT"/>
              </a:rPr>
              <a:t>¿Por qué?</a:t>
            </a:r>
            <a:endParaRPr b="0" lang="en-US" sz="3200" spc="-1" strike="noStrike">
              <a:solidFill>
                <a:srgbClr val="000000"/>
              </a:solidFill>
              <a:latin typeface="Stylus B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8b1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Stylus BT"/>
              </a:rPr>
              <a:t>¿Cómo?</a:t>
            </a:r>
            <a:endParaRPr b="0" lang="en-US" sz="3200" spc="-1" strike="noStrike">
              <a:solidFill>
                <a:srgbClr val="000000"/>
              </a:solidFill>
              <a:latin typeface="Stylus B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8b1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Stylus BT"/>
              </a:rPr>
              <a:t>¿Con qué?</a:t>
            </a:r>
            <a:endParaRPr b="0" lang="en-US" sz="3200" spc="-1" strike="noStrike">
              <a:solidFill>
                <a:srgbClr val="000000"/>
              </a:solidFill>
              <a:latin typeface="Stylus B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8b1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Stylus BT"/>
              </a:rPr>
              <a:t>¿Qué hemos hecho?</a:t>
            </a:r>
            <a:endParaRPr b="0" lang="en-US" sz="3200" spc="-1" strike="noStrike">
              <a:solidFill>
                <a:srgbClr val="000000"/>
              </a:solidFill>
              <a:latin typeface="Stylus B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8b1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Stylus BT"/>
              </a:rPr>
              <a:t>Problemas</a:t>
            </a:r>
            <a:endParaRPr b="0" lang="en-US" sz="3200" spc="-1" strike="noStrike">
              <a:solidFill>
                <a:srgbClr val="000000"/>
              </a:solidFill>
              <a:latin typeface="Stylus B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8b1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Stylus BT"/>
              </a:rPr>
              <a:t>Perspectivas</a:t>
            </a:r>
            <a:endParaRPr b="0" lang="en-US" sz="3200" spc="-1" strike="noStrike">
              <a:solidFill>
                <a:srgbClr val="000000"/>
              </a:solidFill>
              <a:latin typeface="Stylus B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8b1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Stylus BT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a presentación técn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AB502-0C37-4146-B828-B8376E93C82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Proyecto 12191</a:t>
            </a: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9520" y="-76320"/>
            <a:ext cx="5334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96c1ed"/>
                </a:solidFill>
                <a:latin typeface="BankGothic Lt BT"/>
              </a:rPr>
              <a:t>¿Qué estamos haciendo?</a:t>
            </a:r>
            <a:endParaRPr b="1" lang="en-US" sz="3600" spc="-1" strike="noStrike">
              <a:solidFill>
                <a:srgbClr val="96c1ed"/>
              </a:solidFill>
              <a:latin typeface="BankGothic Lt B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b1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Stylus BT"/>
              </a:rPr>
              <a:t>Produciendo un sistema de capacitación basado en la tecnología de objetos de aprendizaje</a:t>
            </a:r>
            <a:endParaRPr b="0" lang="en-US" sz="3200" spc="-1" strike="noStrike">
              <a:solidFill>
                <a:srgbClr val="000000"/>
              </a:solidFill>
              <a:latin typeface="Stylus BT"/>
            </a:endParaRPr>
          </a:p>
          <a:p>
            <a:pPr marL="343080" indent="-343080">
              <a:spcBef>
                <a:spcPts val="799"/>
              </a:spcBef>
              <a:buClr>
                <a:srgbClr val="f8b1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Stylus BT"/>
              </a:rPr>
              <a:t>Que sirva como plataforma para desarrollo e investigación sobre capacitación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Stylus BT"/>
              </a:rPr>
              <a:t>basada en Web</a:t>
            </a:r>
            <a:endParaRPr b="0" lang="en-US" sz="3200" spc="-1" strike="noStrike">
              <a:solidFill>
                <a:srgbClr val="000000"/>
              </a:solidFill>
              <a:latin typeface="Stylus BT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72000" y="4343400"/>
            <a:ext cx="4419720" cy="2057400"/>
            <a:chOff x="4572000" y="4343400"/>
            <a:chExt cx="4419720" cy="2057400"/>
          </a:xfrm>
        </p:grpSpPr>
        <p:sp>
          <p:nvSpPr>
            <p:cNvPr id="98" name=""/>
            <p:cNvSpPr/>
            <p:nvPr/>
          </p:nvSpPr>
          <p:spPr>
            <a:xfrm>
              <a:off x="6045120" y="5788080"/>
              <a:ext cx="1146240" cy="438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8f5ee"/>
                  </a:solidFill>
                  <a:latin typeface="Verdana"/>
                </a:rPr>
                <a:t>Implant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45120" y="5307120"/>
              <a:ext cx="1146240" cy="4363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8f5ee"/>
                  </a:solidFill>
                  <a:latin typeface="Verdana"/>
                </a:rPr>
                <a:t>Arquitectu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45120" y="4824360"/>
              <a:ext cx="1146240" cy="43812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8f5ee"/>
                  </a:solidFill>
                  <a:latin typeface="Verdana"/>
                </a:rPr>
                <a:t>Interacción con</a:t>
              </a:r>
              <a:br>
                <a:rPr sz="1200"/>
              </a:br>
              <a:r>
                <a:rPr b="0" lang="es-ES" sz="1200" spc="-1" strike="noStrike">
                  <a:solidFill>
                    <a:srgbClr val="f8f5ee"/>
                  </a:solidFill>
                  <a:latin typeface="Verdana"/>
                </a:rPr>
                <a:t>el estudia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45120" y="4343400"/>
              <a:ext cx="1146240" cy="438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8f5ee"/>
                  </a:solidFill>
                  <a:latin typeface="Verdana"/>
                </a:rPr>
                <a:t>Pedagogí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0" y="4343400"/>
              <a:ext cx="1104840" cy="744480"/>
            </a:xfrm>
            <a:prstGeom prst="wedgeRoundRectCallout">
              <a:avLst>
                <a:gd name="adj1" fmla="val 77162"/>
                <a:gd name="adj2" fmla="val -22060"/>
                <a:gd name="adj3" fmla="val 16667"/>
              </a:avLst>
            </a:prstGeom>
            <a:solidFill>
              <a:srgbClr val="ff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Verdana"/>
                </a:rPr>
                <a:t>Modelos de</a:t>
              </a:r>
              <a:br>
                <a:rPr sz="1000"/>
              </a:br>
              <a:r>
                <a:rPr b="0" lang="es-ES" sz="1000" spc="-1" strike="noStrike">
                  <a:solidFill>
                    <a:srgbClr val="000000"/>
                  </a:solidFill>
                  <a:latin typeface="Verdana"/>
                </a:rPr>
                <a:t>enseñanza-aprendizaj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0" y="5481720"/>
              <a:ext cx="1187280" cy="787320"/>
            </a:xfrm>
            <a:prstGeom prst="wedgeRoundRectCallout">
              <a:avLst>
                <a:gd name="adj1" fmla="val 67888"/>
                <a:gd name="adj2" fmla="val -41319"/>
                <a:gd name="adj3" fmla="val 16667"/>
              </a:avLst>
            </a:prstGeom>
            <a:solidFill>
              <a:srgbClr val="00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Verdana"/>
                </a:rPr>
                <a:t>Componentes</a:t>
              </a:r>
              <a:br>
                <a:rPr sz="1000"/>
              </a:br>
              <a:r>
                <a:rPr b="0" lang="es-ES" sz="1000" spc="-1" strike="noStrike">
                  <a:solidFill>
                    <a:srgbClr val="000000"/>
                  </a:solidFill>
                  <a:latin typeface="Verdana"/>
                </a:rPr>
                <a:t>del sistem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Verdana"/>
                </a:rPr>
                <a:t>(IEEE LTSA</a:t>
              </a:r>
              <a:r>
                <a:rPr b="0" lang="es-ES" sz="12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r>
                <a:rPr b="0" lang="es-E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01040" y="4387680"/>
              <a:ext cx="1390680" cy="787680"/>
            </a:xfrm>
            <a:prstGeom prst="wedgeRoundRectCallout">
              <a:avLst>
                <a:gd name="adj1" fmla="val -68013"/>
                <a:gd name="adj2" fmla="val 26157"/>
                <a:gd name="adj3" fmla="val 16667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Verdana"/>
                </a:rPr>
                <a:t>Personaliz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Verdana"/>
                </a:rPr>
                <a:t>Asesoría inteligen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59640" y="5437080"/>
              <a:ext cx="1432080" cy="963720"/>
            </a:xfrm>
            <a:prstGeom prst="wedgeRoundRectCallout">
              <a:avLst>
                <a:gd name="adj1" fmla="val -66129"/>
                <a:gd name="adj2" fmla="val -1134"/>
                <a:gd name="adj3" fmla="val 16667"/>
              </a:avLst>
            </a:prstGeom>
            <a:solidFill>
              <a:srgbClr val="ff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Verdana"/>
                </a:rPr>
                <a:t>We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Verdana"/>
                </a:rPr>
                <a:t>Objetos de aprendizaj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a presentación técn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07B60-FD42-4499-810A-AAED93D5C6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Proyecto 12191</a:t>
            </a: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9520" y="-76320"/>
            <a:ext cx="5334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96c1ed"/>
                </a:solidFill>
                <a:latin typeface="BankGothic Lt BT"/>
              </a:rPr>
              <a:t>Por qué</a:t>
            </a:r>
            <a:endParaRPr b="1" lang="en-US" sz="3600" spc="-1" strike="noStrike">
              <a:solidFill>
                <a:srgbClr val="96c1ed"/>
              </a:solidFill>
              <a:latin typeface="BankGothic Lt B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b1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Stylus BT"/>
              </a:rPr>
              <a:t>Las TIC son útiles para la educación la capacitación para el trabajo</a:t>
            </a:r>
            <a:endParaRPr b="0" lang="en-US" sz="3200" spc="-1" strike="noStrike">
              <a:solidFill>
                <a:srgbClr val="000000"/>
              </a:solidFill>
              <a:latin typeface="Stylus BT"/>
            </a:endParaRPr>
          </a:p>
          <a:p>
            <a:pPr marL="343080" indent="-343080">
              <a:spcBef>
                <a:spcPts val="799"/>
              </a:spcBef>
              <a:buClr>
                <a:srgbClr val="f8b1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Stylus BT"/>
              </a:rPr>
              <a:t>Pero...</a:t>
            </a:r>
            <a:endParaRPr b="0" lang="en-US" sz="3200" spc="-1" strike="noStrike">
              <a:solidFill>
                <a:srgbClr val="000000"/>
              </a:solidFill>
              <a:latin typeface="Stylus BT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Stylus BT"/>
              </a:rPr>
              <a:t>Implantar suele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Stylus BT"/>
              </a:rPr>
              <a:t>costar caro</a:t>
            </a:r>
            <a:endParaRPr b="0" lang="en-US" sz="2800" spc="-1" strike="noStrike">
              <a:solidFill>
                <a:srgbClr val="000000"/>
              </a:solidFill>
              <a:latin typeface="Stylus BT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Stylus BT"/>
              </a:rPr>
              <a:t>Difícil y costoso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Stylus BT"/>
              </a:rPr>
              <a:t>obtener soluciones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Stylus BT"/>
              </a:rPr>
              <a:t>a la medida</a:t>
            </a:r>
            <a:endParaRPr b="0" lang="en-US" sz="2800" spc="-1" strike="noStrike">
              <a:solidFill>
                <a:srgbClr val="000000"/>
              </a:solidFill>
              <a:latin typeface="Stylus BT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Stylus BT"/>
              </a:rPr>
              <a:t>Sistemas generalmente incompatibles</a:t>
            </a:r>
            <a:endParaRPr b="0" lang="en-US" sz="2800" spc="-1" strike="noStrike">
              <a:solidFill>
                <a:srgbClr val="000000"/>
              </a:solidFill>
              <a:latin typeface="Stylus B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473800" y="2743200"/>
            <a:ext cx="3517920" cy="263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a presentación técn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41E8C-0C5C-4519-B11D-C537E9F524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Proyecto 12191</a:t>
            </a: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-76320"/>
            <a:ext cx="5334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96c1ed"/>
                </a:solidFill>
                <a:latin typeface="BankGothic Lt BT"/>
              </a:rPr>
              <a:t>Por qué</a:t>
            </a:r>
            <a:endParaRPr b="1" lang="en-US" sz="3600" spc="-1" strike="noStrike">
              <a:solidFill>
                <a:srgbClr val="96c1ed"/>
              </a:solidFill>
              <a:latin typeface="BankGothic Lt B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8b1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Stylus BT"/>
              </a:rPr>
              <a:t>Los sistemas tutores inteligentes (STI) buscan aplicar las técnicas de la IA a la educación</a:t>
            </a:r>
            <a:endParaRPr b="0" lang="en-US" sz="3200" spc="-1" strike="noStrike">
              <a:solidFill>
                <a:srgbClr val="000000"/>
              </a:solidFill>
              <a:latin typeface="Stylus B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8b1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Stylus BT"/>
              </a:rPr>
              <a:t>Han demostrado sus logros... en el laboratorio</a:t>
            </a:r>
            <a:endParaRPr b="0" lang="en-US" sz="3200" spc="-1" strike="noStrike">
              <a:solidFill>
                <a:srgbClr val="000000"/>
              </a:solidFill>
              <a:latin typeface="Stylus B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8b1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Stylus BT"/>
              </a:rPr>
              <a:t>Sin embargo</a:t>
            </a:r>
            <a:endParaRPr b="0" lang="en-US" sz="3200" spc="-1" strike="noStrike">
              <a:solidFill>
                <a:srgbClr val="000000"/>
              </a:solidFill>
              <a:latin typeface="Stylus B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Stylus BT"/>
              </a:rPr>
              <a:t>Los problemas anteriores se agravan</a:t>
            </a:r>
            <a:endParaRPr b="0" lang="en-US" sz="2800" spc="-1" strike="noStrike">
              <a:solidFill>
                <a:srgbClr val="000000"/>
              </a:solidFill>
              <a:latin typeface="Stylus B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Stylus BT"/>
              </a:rPr>
              <a:t>Existe más mercado para la cantidad que para la calidad </a:t>
            </a:r>
            <a:endParaRPr b="0" lang="en-US" sz="28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a presentación técn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2F49D-5703-41E2-AD11-4D613156E5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Proyecto 12191</a:t>
            </a: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9520" y="-76320"/>
            <a:ext cx="5334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96c1ed"/>
                </a:solidFill>
                <a:latin typeface="BankGothic Lt BT"/>
              </a:rPr>
              <a:t>¿Qué podemos hacer?</a:t>
            </a:r>
            <a:endParaRPr b="1" lang="en-US" sz="3600" spc="-1" strike="noStrike">
              <a:solidFill>
                <a:srgbClr val="96c1ed"/>
              </a:solidFill>
              <a:latin typeface="BankGothic Lt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b1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Stylus BT"/>
              </a:rPr>
              <a:t>Sistemas de capacitación apoyados en</a:t>
            </a:r>
            <a:endParaRPr b="0" lang="en-US" sz="3200" spc="-1" strike="noStrike">
              <a:solidFill>
                <a:srgbClr val="000000"/>
              </a:solidFill>
              <a:latin typeface="Stylus BT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Stylus BT"/>
              </a:rPr>
              <a:t>Internet/Web</a:t>
            </a:r>
            <a:endParaRPr b="0" lang="en-US" sz="2800" spc="-1" strike="noStrike">
              <a:solidFill>
                <a:srgbClr val="000000"/>
              </a:solidFill>
              <a:latin typeface="Stylus BT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Stylus BT"/>
              </a:rPr>
              <a:t>Objetos de aprendizaje y </a:t>
            </a:r>
            <a:endParaRPr b="0" lang="en-US" sz="2800" spc="-1" strike="noStrike">
              <a:solidFill>
                <a:srgbClr val="000000"/>
              </a:solidFill>
              <a:latin typeface="Stylus BT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Stylus BT"/>
              </a:rPr>
              <a:t>Técnicas de tutores inteligentes</a:t>
            </a:r>
            <a:endParaRPr b="0" lang="en-US" sz="2800" spc="-1" strike="noStrike">
              <a:solidFill>
                <a:srgbClr val="000000"/>
              </a:solidFill>
              <a:latin typeface="Stylus B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ylus BT"/>
            </a:endParaRPr>
          </a:p>
          <a:p>
            <a:pPr marL="343080" indent="-343080">
              <a:spcBef>
                <a:spcPts val="799"/>
              </a:spcBef>
              <a:buClr>
                <a:srgbClr val="f8b1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Stylus BT"/>
              </a:rPr>
              <a:t>Por supuesto, es sólo el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Stylus BT"/>
              </a:rPr>
              <a:t>lado tecnológico del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Stylus BT"/>
              </a:rPr>
              <a:t>problema</a:t>
            </a:r>
            <a:endParaRPr b="0" lang="en-US" sz="3200" spc="-1" strike="noStrike">
              <a:solidFill>
                <a:srgbClr val="000000"/>
              </a:solidFill>
              <a:latin typeface="Stylus BT"/>
            </a:endParaRPr>
          </a:p>
        </p:txBody>
      </p:sp>
      <p:pic>
        <p:nvPicPr>
          <p:cNvPr id="113" name="pe07259_" descr=""/>
          <p:cNvPicPr/>
          <p:nvPr/>
        </p:nvPicPr>
        <p:blipFill>
          <a:blip r:embed="rId1"/>
          <a:stretch/>
        </p:blipFill>
        <p:spPr>
          <a:xfrm>
            <a:off x="6248520" y="3657600"/>
            <a:ext cx="2411280" cy="251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a presentación técn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F09E9-8FE4-4153-8B75-9DBA154EC4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Proyecto 12191</a:t>
            </a: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9520" y="-76320"/>
            <a:ext cx="5334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96c1ed"/>
                </a:solidFill>
                <a:latin typeface="BankGothic Lt BT"/>
              </a:rPr>
              <a:t>Cómo</a:t>
            </a:r>
            <a:endParaRPr b="1" lang="en-US" sz="3600" spc="-1" strike="noStrike">
              <a:solidFill>
                <a:srgbClr val="96c1ed"/>
              </a:solidFill>
              <a:latin typeface="BankGothic Lt B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b1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Stylus BT"/>
              </a:rPr>
              <a:t>Integrando funcionalmente dos prototipos</a:t>
            </a:r>
            <a:endParaRPr b="0" lang="en-US" sz="3200" spc="-1" strike="noStrike">
              <a:solidFill>
                <a:srgbClr val="000000"/>
              </a:solidFill>
              <a:latin typeface="Stylus BT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Stylus BT"/>
              </a:rPr>
              <a:t>Sistema para la administración de cursos multimedia (SAC, 2000)</a:t>
            </a:r>
            <a:endParaRPr b="0" lang="en-US" sz="2800" spc="-1" strike="noStrike">
              <a:solidFill>
                <a:srgbClr val="000000"/>
              </a:solidFill>
              <a:latin typeface="Stylus BT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Stylus BT"/>
              </a:rPr>
              <a:t>Sistema inteligente de capacitación en Web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Stylus BT"/>
              </a:rPr>
              <a:t>(SICW, 2001)</a:t>
            </a:r>
            <a:endParaRPr b="0" lang="en-US" sz="2800" spc="-1" strike="noStrike">
              <a:solidFill>
                <a:srgbClr val="000000"/>
              </a:solidFill>
              <a:latin typeface="Stylus BT"/>
            </a:endParaRPr>
          </a:p>
          <a:p>
            <a:pPr marL="343080" indent="-343080">
              <a:spcBef>
                <a:spcPts val="799"/>
              </a:spcBef>
              <a:buClr>
                <a:srgbClr val="f8b1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Stylus BT"/>
              </a:rPr>
              <a:t>En un sistema sencillo, accesible, robusto, flexible y útil</a:t>
            </a:r>
            <a:endParaRPr b="0" lang="en-US" sz="3200" spc="-1" strike="noStrike">
              <a:solidFill>
                <a:srgbClr val="000000"/>
              </a:solidFill>
              <a:latin typeface="Stylus B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a presentación técn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9035D-822D-4EBA-9373-50E5B4DE28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Proyecto 12191</a:t>
            </a: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9520" y="-76320"/>
            <a:ext cx="5334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96c1ed"/>
                </a:solidFill>
                <a:latin typeface="BankGothic Lt BT"/>
              </a:rPr>
              <a:t>Cómo</a:t>
            </a:r>
            <a:endParaRPr b="1" lang="en-US" sz="3600" spc="-1" strike="noStrike">
              <a:solidFill>
                <a:srgbClr val="96c1ed"/>
              </a:solidFill>
              <a:latin typeface="BankGothic Lt B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b1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tylus BT"/>
              </a:rPr>
              <a:t>VIBORA: un sistema basado totalmente en estándares y software libre</a:t>
            </a:r>
            <a:endParaRPr b="0" lang="en-US" sz="3200" spc="-1" strike="noStrike">
              <a:solidFill>
                <a:srgbClr val="000000"/>
              </a:solidFill>
              <a:latin typeface="Stylus BT"/>
            </a:endParaRPr>
          </a:p>
          <a:p>
            <a:pPr marL="343080" indent="-343080">
              <a:spcBef>
                <a:spcPts val="799"/>
              </a:spcBef>
              <a:buClr>
                <a:srgbClr val="f8b1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tylus BT"/>
              </a:rPr>
              <a:t>Uso de la tecnología de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Stylus BT"/>
              </a:rPr>
              <a:t>objetos de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Stylus BT"/>
              </a:rPr>
              <a:t>aprendizaje</a:t>
            </a:r>
            <a:endParaRPr b="0" lang="en-US" sz="3200" spc="-1" strike="noStrike">
              <a:solidFill>
                <a:srgbClr val="000000"/>
              </a:solidFill>
              <a:latin typeface="Stylus B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ylus BT"/>
            </a:endParaRPr>
          </a:p>
        </p:txBody>
      </p:sp>
      <p:pic>
        <p:nvPicPr>
          <p:cNvPr id="118" name="MP00640_" descr=""/>
          <p:cNvPicPr/>
          <p:nvPr/>
        </p:nvPicPr>
        <p:blipFill>
          <a:blip r:embed="rId1"/>
          <a:stretch/>
        </p:blipFill>
        <p:spPr>
          <a:xfrm>
            <a:off x="3352680" y="3290760"/>
            <a:ext cx="3429000" cy="3414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flipH="1">
            <a:off x="7315200" y="3200400"/>
            <a:ext cx="1471680" cy="936720"/>
          </a:xfrm>
          <a:custGeom>
            <a:avLst/>
            <a:gdLst>
              <a:gd name="textAreaLeft" fmla="*/ 360 w 1471680"/>
              <a:gd name="textAreaRight" fmla="*/ 1472400 w 147168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8b1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Etiqu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84800" y="5583240"/>
            <a:ext cx="87120" cy="185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9" idx="0"/>
            <a:endCxn id="118" idx="3"/>
          </p:cNvCxnSpPr>
          <p:nvPr/>
        </p:nvCxnSpPr>
        <p:spPr>
          <a:xfrm flipV="1" rot="10800000">
            <a:off x="6780960" y="3666600"/>
            <a:ext cx="516600" cy="1332720"/>
          </a:xfrm>
          <a:prstGeom prst="curvedConnector5">
            <a:avLst>
              <a:gd name="adj1" fmla="val 48256"/>
              <a:gd name="adj2" fmla="val 49986"/>
              <a:gd name="adj3" fmla="val 48256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-9360" y="30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a presentación técn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8DFF2-7D61-4706-A1AE-5B5282AB53A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Proyecto 12191</a:t>
            </a: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5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9520" y="-76320"/>
            <a:ext cx="5334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96c1ed"/>
                </a:solidFill>
                <a:latin typeface="BankGothic Lt BT"/>
              </a:rPr>
              <a:t>Con qué</a:t>
            </a:r>
            <a:endParaRPr b="1" lang="en-US" sz="3600" spc="-1" strike="noStrike">
              <a:solidFill>
                <a:srgbClr val="96c1ed"/>
              </a:solidFill>
              <a:latin typeface="BankGothic Lt B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8b1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tylus BT"/>
              </a:rPr>
              <a:t>Estándares</a:t>
            </a:r>
            <a:endParaRPr b="0" lang="en-US" sz="3200" spc="-1" strike="noStrike">
              <a:solidFill>
                <a:srgbClr val="000000"/>
              </a:solidFill>
              <a:latin typeface="Stylus B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Stylus BT"/>
              </a:rPr>
              <a:t>IMS, SCORM,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Stylus BT"/>
              </a:rPr>
              <a:t>XML, (X)HTML,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Stylus BT"/>
              </a:rPr>
              <a:t>PNG, VRML,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Stylus BT"/>
              </a:rPr>
              <a:t>HTTP, Java, etc.</a:t>
            </a:r>
            <a:endParaRPr b="0" lang="en-US" sz="2800" spc="-1" strike="noStrike">
              <a:solidFill>
                <a:srgbClr val="000000"/>
              </a:solidFill>
              <a:latin typeface="Stylus B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8b1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tylus BT"/>
              </a:rPr>
              <a:t>Software libre</a:t>
            </a:r>
            <a:endParaRPr b="0" lang="en-US" sz="3200" spc="-1" strike="noStrike">
              <a:solidFill>
                <a:srgbClr val="000000"/>
              </a:solidFill>
              <a:latin typeface="Stylus B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Stylus BT"/>
              </a:rPr>
              <a:t>Apache, Tomcat,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Stylus BT"/>
              </a:rPr>
              <a:t>IBM Java (gratuito),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Stylus BT"/>
              </a:rPr>
              <a:t>MySQL, Linux</a:t>
            </a:r>
            <a:endParaRPr b="0" lang="en-US" sz="2800" spc="-1" strike="noStrike">
              <a:solidFill>
                <a:srgbClr val="000000"/>
              </a:solidFill>
              <a:latin typeface="Stylus B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8b1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tylus BT"/>
              </a:rPr>
              <a:t>ADL Sample Run-Time 1.2</a:t>
            </a:r>
            <a:endParaRPr b="0" lang="en-US" sz="3200" spc="-1" strike="noStrike">
              <a:solidFill>
                <a:srgbClr val="000000"/>
              </a:solidFill>
              <a:latin typeface="Stylus BT"/>
            </a:endParaRPr>
          </a:p>
        </p:txBody>
      </p:sp>
      <p:sp>
        <p:nvSpPr>
          <p:cNvPr id="125" name=""/>
          <p:cNvSpPr/>
          <p:nvPr/>
        </p:nvSpPr>
        <p:spPr>
          <a:xfrm>
            <a:off x="-9360" y="30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238880" y="4724280"/>
            <a:ext cx="1354320" cy="1600200"/>
          </a:xfrm>
          <a:prstGeom prst="rect">
            <a:avLst/>
          </a:prstGeom>
          <a:ln w="0">
            <a:noFill/>
          </a:ln>
        </p:spPr>
      </p:pic>
      <p:pic>
        <p:nvPicPr>
          <p:cNvPr id="127" name="tomcat" descr=""/>
          <p:cNvPicPr/>
          <p:nvPr/>
        </p:nvPicPr>
        <p:blipFill>
          <a:blip r:embed="rId2"/>
          <a:stretch/>
        </p:blipFill>
        <p:spPr>
          <a:xfrm>
            <a:off x="5486400" y="3962520"/>
            <a:ext cx="1650960" cy="116820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4724280" y="1143000"/>
            <a:ext cx="4038480" cy="2209320"/>
            <a:chOff x="4724280" y="1143000"/>
            <a:chExt cx="4038480" cy="2209320"/>
          </a:xfrm>
        </p:grpSpPr>
        <p:grpSp>
          <p:nvGrpSpPr>
            <p:cNvPr id="129" name=""/>
            <p:cNvGrpSpPr/>
            <p:nvPr/>
          </p:nvGrpSpPr>
          <p:grpSpPr>
            <a:xfrm>
              <a:off x="4724280" y="1143000"/>
              <a:ext cx="4038480" cy="2209320"/>
              <a:chOff x="4724280" y="1143000"/>
              <a:chExt cx="4038480" cy="2209320"/>
            </a:xfrm>
          </p:grpSpPr>
          <p:sp>
            <p:nvSpPr>
              <p:cNvPr id="130" name=""/>
              <p:cNvSpPr/>
              <p:nvPr/>
            </p:nvSpPr>
            <p:spPr>
              <a:xfrm flipH="1">
                <a:off x="7188120" y="1143000"/>
                <a:ext cx="1285920" cy="675720"/>
              </a:xfrm>
              <a:custGeom>
                <a:avLst/>
                <a:gdLst>
                  <a:gd name="textAreaLeft" fmla="*/ 360 w 1285920"/>
                  <a:gd name="textAreaRight" fmla="*/ 1286640 w 1285920"/>
                  <a:gd name="textAreaTop" fmla="*/ 0 h 675720"/>
                  <a:gd name="textAreaBottom" fmla="*/ 676080 h 675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8b1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Tahoma"/>
                  </a:rPr>
                  <a:t>Etique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ahoma"/>
                  </a:rPr>
                  <a:t>(XM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4724280" y="1863720"/>
                <a:ext cx="1692000" cy="1488600"/>
                <a:chOff x="4724280" y="1863720"/>
                <a:chExt cx="1692000" cy="148860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724280" y="1863720"/>
                  <a:ext cx="1508040" cy="1488600"/>
                </a:xfrm>
                <a:prstGeom prst="rect">
                  <a:avLst/>
                </a:prstGeom>
                <a:solidFill>
                  <a:srgbClr val="66ff66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Tahoma"/>
                    </a:rPr>
                    <a:t>Paque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ahoma"/>
                    </a:rPr>
                    <a:t>Contenid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342840" y="2314800"/>
                  <a:ext cx="73440" cy="1350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34" name=""/>
                <p:cNvGraphicFramePr/>
                <p:nvPr/>
              </p:nvGraphicFramePr>
              <p:xfrm>
                <a:off x="4834440" y="2675520"/>
                <a:ext cx="1337400" cy="51876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35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4834440" y="2675520"/>
                          <a:ext cx="1337400" cy="518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36" name=""/>
              <p:cNvSpPr/>
              <p:nvPr/>
            </p:nvSpPr>
            <p:spPr>
              <a:xfrm>
                <a:off x="6893640" y="2089440"/>
                <a:ext cx="1869120" cy="1144080"/>
              </a:xfrm>
              <a:prstGeom prst="wedgeEllipseCallout">
                <a:avLst>
                  <a:gd name="adj1" fmla="val -6111"/>
                  <a:gd name="adj2" fmla="val -6533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ahoma"/>
                  </a:rPr>
                  <a:t>Manifiesto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s-ES" sz="1400" spc="-1" strike="noStrike">
                    <a:solidFill>
                      <a:srgbClr val="000000"/>
                    </a:solidFill>
                    <a:latin typeface="Tahoma"/>
                  </a:rPr>
                  <a:t>Metadat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s-ES" sz="1400" spc="-1" strike="noStrike">
                    <a:solidFill>
                      <a:srgbClr val="000000"/>
                    </a:solidFill>
                    <a:latin typeface="Tahoma"/>
                  </a:rPr>
                  <a:t>Oganizacion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s-ES" sz="1400" spc="-1" strike="noStrike">
                    <a:solidFill>
                      <a:srgbClr val="000000"/>
                    </a:solidFill>
                    <a:latin typeface="Tahoma"/>
                  </a:rPr>
                  <a:t>Recurs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37" name=""/>
              <p:cNvCxnSpPr>
                <a:endCxn id="133" idx="6"/>
              </p:cNvCxnSpPr>
              <p:nvPr/>
            </p:nvCxnSpPr>
            <p:spPr>
              <a:xfrm flipV="1" rot="10800000">
                <a:off x="6415560" y="1503000"/>
                <a:ext cx="910800" cy="879840"/>
              </a:xfrm>
              <a:prstGeom prst="curvedConnector5">
                <a:avLst>
                  <a:gd name="adj1" fmla="val 49466"/>
                  <a:gd name="adj2" fmla="val 49979"/>
                  <a:gd name="adj3" fmla="val 49466"/>
                </a:avLst>
              </a:prstGeom>
              <a:ln w="381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38" name=""/>
            <p:cNvSpPr txBox="1"/>
            <p:nvPr/>
          </p:nvSpPr>
          <p:spPr>
            <a:xfrm rot="20005800">
              <a:off x="5752080" y="2057040"/>
              <a:ext cx="205596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8440">
                    <a:solidFill>
                      <a:srgbClr val="ff0000"/>
                    </a:solidFill>
                    <a:miter/>
                  </a:ln>
                  <a:noFill/>
                  <a:latin typeface="Impact"/>
                </a:rPr>
                <a:t>SCORM 1.2</a:t>
              </a:r>
              <a:endParaRPr b="0" lang="en-US" sz="2400" spc="1" strike="noStrike">
                <a:ln w="28440">
                  <a:solidFill>
                    <a:srgbClr val="ff0000"/>
                  </a:solidFill>
                  <a:miter/>
                </a:ln>
                <a:noFill/>
                <a:latin typeface="Impact"/>
                <a:ea typeface="Impact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a presentación técn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FDAE1-ECE1-407A-B06E-A48AADC918C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Proyecto 12191</a:t>
            </a: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afael Morales Gamboa</dc:creator>
  <dc:description/>
  <dc:language>en-US</dc:language>
  <cp:lastModifiedBy>JUDITH MARGARITA RUBIO GALLEGOS</cp:lastModifiedBy>
  <dcterms:modified xsi:type="dcterms:W3CDTF">2003-04-03T06:58:24Z</dcterms:modified>
  <cp:revision>205</cp:revision>
  <dc:subject>Presentación técnica final del proyecto 11987</dc:subject>
  <dc:title>Sistemas inteligentes de capacitación basados en tecnología Web</dc:title>
</cp:coreProperties>
</file>